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Structures &amp;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Lecture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eciding Fac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derstand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requency of Op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ider Trade-Of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requent Operations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re Operations Expen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Key-Indexed 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ys are Small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rhaps Hash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dex Array Direc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ys Must Be U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 Sub-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equential 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ore Items by Sorted by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nked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ore Items Chronolog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Que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ider Trade-Of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inary 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ble Sor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ze of Table Kn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inary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ur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e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ndle Duplicate 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arch Fwd &amp; Bw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terpolation 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milar to Bin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ware of Range of 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ys  Evenly Distrib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uess at Lo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Humans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re to Find Zelinsky in Phone Boo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t at Midd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artial Key Inde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dex of Partial 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rt of A, B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fine Search Lim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ame &amp; Next Le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 Binary or Interpo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for Linked Lists, al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inary Search Tre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inary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des Have 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ft Tree &lt;= Node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ght Tree =&gt; Node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qual Should be all on one side or the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reating B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t New I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ert in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d Lo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put Should be Rand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alanced B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ees Should be Bala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 So If Input Sor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ider Cost of Bal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st to Cre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st to Main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alancing B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licit Bal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ndom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mort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ptim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st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orst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verage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aps 12-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ymbol 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inary Search Trees (B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alanced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ST Explicit Bal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tect When Unbala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ll Balance Rou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y Return New Root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ST Randomized Balanc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ke Randomized Dec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ert at 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isting Tree Will be a Subt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ert in Sub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de Will Appear in appropriate Subt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cide at Each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inue Until Root Inser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 Reach Leaf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mortized Tree Balanc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f Most Requests for Most Rec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ep Recent Near Top of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otate Tree When Inse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ise New Node Towards Ro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lay B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nked Lis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nked List is Sequent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to Speed Up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dexed Linked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kip 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dexed Linked Li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uild Index Into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bably Best if Exter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ased on Primary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bably Partial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s to Start in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ssibly Every 'n' E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arch Index for Where to Start in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ndle No-Data for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kip Li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ke Express L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very So Often, Provide Link 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kip over 'n' E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Traversing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e if Skip Forward Beyond Search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Not, Use Skip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therwise, Use Detailed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ve Several Levels of Skip 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ymbol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ems with 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ert New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trieve Item for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rted in Some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ctionari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sociative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ymbol Table ADT Capabili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12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ert New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arch for Item w/ Given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lete Specified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lect kth smallest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rt (visit in order) Symbol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oin Two Symbol 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uplicate Keys - Strateg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Don't A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A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Single Entry in 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Multiple Entries in 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Construct Unique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isal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y must be u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, SS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tempt to Insert Duplicate is an Er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ST Entries Look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Key &amp;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use Key as Handle or 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ingle Entry in Symbol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ow Duplicate 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ngle Entry in 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s to sublist of duplic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Use One Type of ST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ways have sublist, even if no duplic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Use Two Types of ST E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Type for Single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other Type for Multiple Ke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uplicate Entries in 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ow Duplicate 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ow Multiple E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arch Routine Retu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M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st M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t of Ma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ly one type of ST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Unique Keys in 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ow Duplicate 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Compound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quence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dul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me other Data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many entries for variable "i"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for each rou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Data Structures &amp; Algorithms</dc:title>
</cp:coreProperties>
</file>