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88"/>
              </a:spcBef>
              <a:buClr>
                <a:srgbClr val="ffffff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88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88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Data Structures &amp; Algorith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Lectur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Abstract Data Types (AD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Handling Duplicate Ite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st Be Able to Find Match Eas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orted or Fast Search Rout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d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at to d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Existing Ite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sert in front or in bac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ject Reques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ell Client?  Return Ol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ADT Famil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ltiple Flavors of Each Queue 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low Duplicates?, Replace Old Ite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form Client of Exception Hand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vide More Detail in event of Fail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d N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isting Node if Reta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bility to Search Queue is Helpfu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rst, Last, Count, 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revious ADT Implem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nly One In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ACKinit(100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ACKpush(a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 = STACKpop(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ow to Handle Two Stack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reate Stack In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ecify Stack Instance for Rout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irst-Class AD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First-Class AD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ltiple In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DTs are O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clare Vari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ssign Instances to Vari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erform Operations Wi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ccess/Set Public Fie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ke a struct poin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ut Transparent to U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omplex Number AD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al Numb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y "normal"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aginary Numb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quare Root of 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mplex Numb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al &amp; Imaginary Compon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eneral Form: (a+b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.g. (4 + 5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omplex Arithmeti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9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c1 = a1 + b1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c2 = a2 + b2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C1 + C2 = (a1+a2)+(b1+b2)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C1*C2 = (a1*a2) - (b1*b2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+ (a1*b2 + a2*b1)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(Since i*i is -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omplex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0">
              <a:lnSpc>
                <a:spcPct val="89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typedef struct { float Re; float Im; } Complex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Complex COMPLEXinit(float, float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float Re(Complex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float Im(Complex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Complex COMPLEXadd(Complex, Complex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Complex COMPLEXmult(Complex, Complex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First-Class Queue AD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9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typedef struct queue *Q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Q QUEUEinit(int maxN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int QUEUEempty(Q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void QUEUEput(Q, Item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Item QUEUEget(Q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void QUEUEdisplay(Q, FILE *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void QUEUEdump(Q, FILE *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Implementing First-Class AD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vide Hand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, Key, Index for Imple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eaningless Number for Cl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ocate &amp; Free El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vide Rout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t/Access Public Fie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py El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pare El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Phases Using Stubs &amp; Driv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Object Oriented AD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ethods Are Contained in Ob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ack.push(ite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em = stack.pop(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Do This With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ructure Contains Pointers to Fun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ack-&gt;push(ite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Pass Object to Rout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sh(stack, ite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em = pop(stack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FIFO Que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IF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rst In, First 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dd to End of Que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nque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move from Front of Que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que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.g., Bank 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erspectiv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DT Important Software T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ncapsulates Logical O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ncapsulates Support Rout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ncapsulates Algorith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Optimize Transparent to Cl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seful for Testing New Algorith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FIFO AD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9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void QUEUEinit(int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int QUEUEempty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void QUEUEput(Item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Item QUEUEget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FIFO ADT Implemen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ed Easy Access to Front of 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ave Pointer to Fro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ed Easy Access to Back of 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ave Pointer to B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ed Ability to Grow &amp; Shrink Eas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row at E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rink at Fro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Linked List Queu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inters to Head &amp; T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Emp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ead &amp; Tail Pointers NU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o Enque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dd Node After Tail &amp; Reset T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o Deque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move Head Node &amp; reset to head-&gt;n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Array Queu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ircular 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d &amp; Tail Pointers (Index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se Modulo to Wrap A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Emp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ead &amp; Tail the S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Fu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ead is Tail + 1 (modul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crement &amp; Decrement Head &amp; T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Generalized Queu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IFO Queues are fixed, simpl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ther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andom Que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move Some El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iority Que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move Element w/ Highest Prio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ymbol 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trieve Element w/ matching k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orted 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Evaluating Implem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mpare with Existing Imple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erify Results are the S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hecking Timing Against Older Ver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Duplicate Ite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re Duplicates Allow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ow to Handle The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ow to Prevent The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quire Return Code for Inser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ccess or F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quire Parameter for Dele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ich Entry to Dele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Pringle</dc:creator>
  <dc:description/>
  <dc:language>en-US</dc:language>
  <cp:lastModifiedBy>Bill Pringle</cp:lastModifiedBy>
  <cp:revision>0</cp:revision>
  <dc:subject/>
  <dc:title>Data Structures &amp; Algorithms</dc:title>
</cp:coreProperties>
</file>