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Elementary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ubs &amp; Driv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ummy routine that is ca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tends to do something not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ask user for return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ummy routine that calls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used to test your rout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menu or control file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ubs &amp; Driv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aw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iver.cpp is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s routines with hard-wired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awobj_draw routine is st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call draw_point, draw_lin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rrently just print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compiles &amp;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test rest of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hased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 in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Intermediate routines a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lesh out &amp; enhance in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new interface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rther implement existing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tending Interf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 existing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itional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't Change Interface to Existing Rout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i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New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s previous AD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i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tance, pola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on of identical data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array of generic (void) 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ximum size must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ements Referenced by Index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access dire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add/delete a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icult to add/delete in middle or b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implement other Data Str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ive of Eratosth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ume all numbers are pr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 through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ing a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prime, mark all multiples non-pr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done, loop through array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y entries still marked prime, are pr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pointer instead of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use malloc to allocate, realloc to exp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dList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osest Point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3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ults are stored in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zed after all points 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each pair of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p through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ir with remaining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eck if less than given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ed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es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Node Knows the Nex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d - Front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il - End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ed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quential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rd to Start in M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rd to Jump to nth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Add Any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Keep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implemented using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y easy to add in midd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ysical vs Log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rganizing th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design can simplify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make it very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wo depend on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ypes of Linked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Lin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st Node has NULL Po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uble Lin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v &amp; N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mmy Nodes at Head and/or 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plifies Add,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il Points Back to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 Poin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rmally Memory 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ex into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ge-Offset into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 Value (Foreign K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des Dynamically Allo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ding a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ert Ent After Pre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 Entry Points to Where Previou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evious Entry Points to New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nt-&gt;next = prev-&gt;nex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prev-&gt;next = en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leting a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Node After Pre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ev Points to Where E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lete Node &amp; mayb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prev-&gt;next = ent-&gt;nex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free_node(en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ooping Through Linked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 at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inue Until Las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for (ent=head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nt-&gt;next != NULL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nt=ent-&gt;n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sit(en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ample Pr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ple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k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ic 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ither May be Used in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 is, modified, or exp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nked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d by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ll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dicating No Links (Empty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Node Pointing to a 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define Tail 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d &amp; Tail Must be Maint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ve dummy Head &amp; Tail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ail Lin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ULL 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links f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mmy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al (High)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 back to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eck during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raversing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it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 (t=head;t!=NULL;t=t-&gt;n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visit(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 last node (Tail) on non-empty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 (t=head;t-&gt;next!=NUL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=t-&gt;nex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nding Specific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ing Node with given ke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 (t=head; t!=N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amp;&amp; t-&gt;key!=key; t=t-&gt;nex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ing Node Before given ke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 (t=head; t!=NULL  &amp;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-&gt;next-&gt;key!=key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=t-&gt;nex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bstract Data Type (AD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stract specifica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ilar to 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with 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most an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ous Implementations for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ding to a Linked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to End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end,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to Start of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ck, Re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 internal to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intain Sort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uilding Blo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imitiv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loa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s are usually deri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 of data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 of operations on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y to be as generic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w for extensions, mod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itional operations for specific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nctions are type of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reating AD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efine Interf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lient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fine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s what client can do w/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values visible to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blic methods available to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uld include descriptive expla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limitations &amp;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client mus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client ca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client can'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ient Dr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en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lls implementation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ften Menu or control file 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uts of the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ailed execution of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y contain hidden routines &amp;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ent restricted to handles where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Implementations for an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simple, Tweak as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rt different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ep public interface 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No Slide Title</dc:title>
</cp:coreProperties>
</file>