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nalyzing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bject Oriented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k in the first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am a xx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know my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know how to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know when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s, han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ing Ob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be other objects/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objects can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object react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on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bject Oriented Flav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structures to represent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void/generic pointers where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routines to allocate &amp; free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routines to access &amp; edit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support routines for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ample Proj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aw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program to draw fig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Interface (I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nimal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and as the design m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nal Changes transparent to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 Implementation Guidel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inly For Progra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ointers &amp; Hand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wo header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blic file for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 foobar; /* no definition for user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 foobar *create_foobar(voi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id *create_barfoo(voi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ivate file for internal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 foobar { int id; char *key; ... 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tic Glob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ic globals are local to module (fi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int numents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y routine in file can see &amp; chang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routine outside of file can se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eTable[numents++] = newen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lling routines pass index, pointer, or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utines to access &amp; chang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validate data before chan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stru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oBar *create_foobar(vo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oBar *r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 = malloc(sizeof(*ret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ret != NULL) memset(ret, '\0',sizeof(*ret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urn r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alling Constru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oBar *foo = NULL; /* declare obj ptr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o = create_fooba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(foo == NU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printf(stderr, "No memory for foo!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estru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oid free_foobar(FooBar *f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foo == NULL) retur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mset(foo, '\0', sizeof(*foo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ee(foo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nalyzing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ress algorithm in some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gorithm usually language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for this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translated to any other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ze complexity &amp;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many loop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many nested loop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derstand Inp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alling Destru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oBar *foo = NULL; /* init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o = create_foo(); /* create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e_foobar(foo); /* free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o = NULL; /* discard reference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mpirical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eak existing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st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me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y number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ze mathe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takes too long to 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ermine how to optim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mon Mistak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gnoring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input size increa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sessing over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it already fast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 cost/benefit of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ike a 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mize areas where most of the time is sp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kes lon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led most of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lgorithm Ti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lative ti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't try to predict actual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is the time being sp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modifications be ma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udy nature of inp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 order? unique?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st-case, worst-case, average-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me test cases &amp; verify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im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itialize routine - 100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p 1,000,000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p body 10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ap-up routine - 1000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to optimiz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ase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orst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ig-Oh N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st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ig Ome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pper &amp; Lower Bou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ig Th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gorithm calls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(n) = n * fact(n-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made inte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(fact=1, i=1; i &lt;=n; i++) fact *=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vide &amp; Conqu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vide big problem into two smal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ursively solve smaller and smaller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Working With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 Oriented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resent logical or physical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k at Objects from Several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