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ecture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sertion Sort Pro &amp; C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equent Inserts into Middle of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equent Bubble Sort of E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rd for Arrays, Easy for Linked 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ry Efficient if Collection Mostly Sor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ubble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6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op Through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p Through Rest of 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are Adjacent E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Out of Order, Swap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No Swaps, Terminate Sort (*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*) Prog 6.4 Omits This St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ubble Sort Pro &amp; C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ny Sw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mallest Bubbles to 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rgest Drops to Bot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Terminate E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hell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6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eak Collection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 Interleave E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rt Each Piece of Col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duce Interleave to N1 (&lt; 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peat until N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hell Sort Pro &amp; C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Able to Access element 'n'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sy for Arrays, Hard for Linked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ble to Sort Lar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tries Travel Great Distances at st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maller Distances Towards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orting Item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em doesn't have to be Inte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Function to extract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ey(it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llection of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ray of Pointers to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nked List of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Function to compare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mparing I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(item1, item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uld be Similar to strc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nkedList Pa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lt; 0 if item1 &lt; item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 0 if item1 &gt; item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0 if item1 == item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ot Sorting Reco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rting Records Considerable Over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changing Pointers Inst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dex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Preserve Loc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ant if using poin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Have Multiple S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-Place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 6.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uild &amp; Sort Index Array (ndx[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nd First Entry Out of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[i] != data[ndx[i]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ave Out of Place Entry (creating ho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e Correct Entry into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eat Until Saved Entry Goes in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peat Until All in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orting Linked Li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sy to Ins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rd to Find Entry 'n'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to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to Next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't Change Con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 Links Point to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or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der Elements in Col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rt by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ze of Ke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ze of Rec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umber of Rec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Key Indexed Coun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amine Properties of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We take Advantage of Any Properti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mall Range of Unique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as Array Ind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mall Number of Non-Unique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e Index Ar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 Occurances of Each Key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tition Index Array by Key Value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e Program 6.17 (not in source co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Use Key As Inde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f Keys were U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f Key Values were 0 -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Array to Store Record 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c[N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itialize Loc[] Entries to -1 (no recor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ore Array Index into Loc Ind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op Through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Entry Not Negative, it is Location of Re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artition Array by Key Valu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s are Zero or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unt How Many Ze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ant to Store Zero Keys in Locs 0 to N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 is number of zero k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Count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 cnt[0] to z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 cnt[1] to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for (i=0; i &lt; M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outtbl[cnt[key]++] = intbl[i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orting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ems in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ter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rting from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rt Records or Ind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nked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eveloping Sorting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rt Si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ke Sure Corr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dify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est Thorough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ort Driver (sort.c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itialize Array of Unsorted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rated Random Numbers or Read from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rt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entify How Many Swa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splay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for Any Sort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nk prog6_X.c &amp; sort.c to create prog6_X.ex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ort Character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ble S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serves Relative Order of Duplicate Ke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ually Increases Over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rect S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rt Actual Rec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mall Rec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direct S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rt Keys w/ Pointers to Rec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rge Rec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election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6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op Thru Array from Top to Bot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ume Entry is the Small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p Thru Remaining Entries for small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Smaller Found, Swap E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ap once at end of each 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h(a[i], a[min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inue to end of 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allest at Top, then Next Smallest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election Sort Pro &amp; C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 Most N sw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for Each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ood for Direct Sort of Large Rec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ice of Data can Affect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d vice ver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sertion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6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re Efficient Version of Prog 6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ke Sorting Hand of C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t Lowest Item at Far Left (Fro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 Location is Next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move Current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ift Smaller Entries Toward Fr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ert Current Entry Where Appropr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Data Structures &amp; Algorithms</dc:title>
</cp:coreProperties>
</file>