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o Mer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While State is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First Entry in Each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First Queue Sma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e Element from First Queue to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First Queue Empty, Add 1 to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w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e Element from Second Queue to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econd Queue Empty, Add 2 to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rgesort and Sentin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Dummy Entry to End of Each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Highest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tual Keys Always Sm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n't Need Test for Empty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rminate When Two Dummy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d of Each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rgesort with Sentin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 Dummy Key at End of Each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Until Key1 &amp; Key2 Are Dum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Key1 &lt; Key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 Entry from Queue1 to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w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 Entry from Queue2 to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One Queue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Key Always Sm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Merge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8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void mergesort(Item a[],int l,int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{ int m = (r+l)/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(r &lt;= l) retur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mergesort(a, l, 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mergesort(a, m+1, 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merge(a, l, m, 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L &amp; R get cl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638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Simple S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ority Que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Structure with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nimum Ope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Insert New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Delete Item with Largest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ful for Dynamic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st At the Mo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ter might get inser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t who ca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ority Queue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New Priority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xed Size or 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New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Maximum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e Priority of Specified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a Specified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oin Two Priority Que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ority Queue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9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oid PQinit(in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fy size of Priority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 PQempty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olean Function (T or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oid PQinsert(Item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Return Success Ind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m PQdelmax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ority Queue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rmine Usage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Often Inser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Often Dele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Often Search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Fast Do They Have to B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 Trade-Of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Priority Queue Kept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Max Triv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ment at Front of 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ete 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Head Pointer for Linke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ft Remaining Entries in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I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ert Item Into Linke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ft Remaining Elements in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 Trade-Off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Items Appended to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Max Requires Sear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arch Entire Queue, Saving Best So 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ete 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y Require Finding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lete from Linke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 Last to Deleted Entry for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ert at Front for Linke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ert at End for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pular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 an array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ce All Small Elements to the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ce All Large Elements to the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 a Partitioning Point (V) 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thing Left of V is Smaller than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thing Right of V is Bigger than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vely Sort Each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eap Data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p Order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of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rger or Equal to All Children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Node Smaller or Equal to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oot is the Larges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p Ordered Binary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resented as an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eap Constr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ot Node is at Location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Node at Location N (start w/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ent N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at Location N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 is at Location 2*N [ 2N+1 if start w/ zero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 is at Location 2N+1[ 2N+2 or 2(N+1)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lgorithms on Hea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ing Elements in 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ify 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New Item at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ap Grows by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ete Item by Replacing w/ Bottom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ap Shrinks by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x the 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nge Probably Violated Heap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pify Data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ding Items to He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New Node to Bottom of 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ew Node Greater than Paren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hange Two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eat Until Heap Conditions M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leting Items from He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lace Deleted Item with Bottom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Last Item Smaller than Children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hange Node with Larger Child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eat Until Heap Conditions M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ottom Up Heapi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9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ixUp(Item a[], int k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while (k &gt; 1 &amp;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less(a[k/2], a[k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exch(a[k], a[k/2]); k = k/2;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op Down Heapi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9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ixDown(Item a[], int k, int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{ int j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while (2*k &lt;=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{ j = 2*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(j &lt; 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&amp;&amp; less(a[j],a[j+1])) j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(!less(a[k], a[j]))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ch(a[k], a[j]); k = j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80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eap Based Priority Que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9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 New Element to Bottom of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x Up the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ove Roo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with Bottom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x Down the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eap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Know Root Node is Larg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ren Nodes Always Sma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p Sort - Prog 9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All Elements into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le Heap Not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move Max Element to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des Already in Arra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pify the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inomial Trees / Que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ft Heap Order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Node &gt;= All Keys in Left Sub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wer of 2 He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-Heap Ordered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ght Node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nomial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wer of 2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sort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red Condi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ment a[L] in position for some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 is left li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ments a[0] thru a[i-1] all less than a[i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ments a[i+1] thru a[R] greater than a[i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 is Right Li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vely Enforce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adix Sor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Significant Digit (MSD) Radix S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by Making P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ip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 Making Piles by First Dig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 Each Pile by Second Dig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inue Until All Digits S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Quit When Pile Size is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ck Up Piles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pecial Purpose Sorting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ing is Often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bility to Retrieve Elements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480" indent="-3034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Special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rtual Memory - Large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cessor Sp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mized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chine Instr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-25272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be just create small piles (has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480" indent="-3034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nchmark Various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7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void quicksort(Item a[], int l, int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int 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r &lt;= l) retur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 = partition(a, l, r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quicksort(a, l, i-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quicksort(a, i+1, r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95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sort Par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ck Some Element V to Partition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, a[R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can Left &amp; Right Towards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 Elements Must be Less than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ght Elements Must be Greater than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Not, Swap Left &amp; Right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Left &amp; Right Scan Meet (at 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ap V and Element at 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rging and Merge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 You Have Two Sorted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Make One Big Sort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Queues - One for Each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3920" indent="-31392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ve Loo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Queue Sorted Small to L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ove Smallest Element from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1840" indent="-2610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e to Outpu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rge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areful of End of File / Empty Que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Neither Queue Emp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lect Smallest of the Two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One Queue Emp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Other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Both Queues Emp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Are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te Flag for Mer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State to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First Queue Empty, Add One to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Second Queue Empty, Add Two to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ue of St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0 Means Both Queues Have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Means First Queue Empty, Second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Means Second Queue Empty, First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 Means Both Queues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rge With State Fla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State is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 Me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 Smaller Element to Output 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State is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Queue T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State is Tw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Queu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rge 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