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Abstract Data Types (AD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ostfix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Operand, Push onto s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p Necessary Values from S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rform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sh Result onto S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4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cesses Character at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uld Use Tokeni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uld Add Other Op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fix to Postfix Conver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gure 4.4 &amp; Program 4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ss Left to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LParen, ign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Operator, push onto s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Operand, send to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RParen, pop operator from s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esn't Handle All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A+B+C)*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fix to Postfix Conver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 same as before, excep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sh LParen on to s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RParen foun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p Stack Until LParen F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ard Lp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to define Operator Prece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ack ADT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parent to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ay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 4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ed to Know Max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 Use Dynamic Array (ProdLi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nked List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 4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n't need Initial Size Lim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reating New AD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Items visible to client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s/routines available to cl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 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rite Client/Driver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st Thorough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n be 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volution of Interf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k Carefully About the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eeze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Add New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ssible Name Confli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n't Change or Delete Existing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Impact Client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Redesig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nsparent to User /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bstract Data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Structure w/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gical or Physical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bstract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d for Many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List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dList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bstract Data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 of ADT by Outsid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to Support AD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ient Driver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ram that Uses AD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FILE *f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mon ADT for C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 can't see details of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can change drast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ns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times More Effic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oint.x = v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tricts Por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oid Void Rout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bust vs Effic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T &amp; Common Rout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mon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ailable to Client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Details Visible to Client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ailable to Client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tails Hidden from Client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oth Are Us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ose Wis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bstract Colle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llection of Abstract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bility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d an Object to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lete an Object from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py Object in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unt Objects in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nd Object in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tails Affect Behavior of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ushdown St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bstract Collection of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st in First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 Objects to Top of S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sh(ob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lete Objects from Top of S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 = pop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, Salad Bar Stack of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ack AD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4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void STACKinit(i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uld Use Static Global Fl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nt STACKempty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Boolean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void STACKpush(Ite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Add Item to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tem STACKpop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elete Item from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efix &amp; Postf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need for Par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efix or Po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vented by Lukasiewic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tfix or Reverse Po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ors appear after Oper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5 9 8 + 4 6 * * 7 + 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5*((9+8)*(4*6)+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ck Used for Reverse Po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Data Structures &amp; Algorithms</dc:title>
</cp:coreProperties>
</file>