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Elementary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ed Lis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rything in One Linked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k All Nodes as "Not Visited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at Head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ode Visited, Q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k Node "Visited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ed to Nex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"Not Visited" nodes are 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to End of Free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ten Implemented as an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Variable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times Limited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ngth of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g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i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xed Size (possibly padded w/ blan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ing Op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Pref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arch for Sub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ify Sub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ble 3.2 in Text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ing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s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ers to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compac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*p instead of str[lo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Usually translates arrays to po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ing Arrays and Poi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[i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amp;a[i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*(a+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+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ound Data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der off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Data Structures are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bine types of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s of Linked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s of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s of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 Should Fit the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ulti-Dimension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s of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ually not needed/wa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ry-over from early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t was all we had to work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Arrays of Structures inst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 contains all necessary data &amp;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ace Requirement Grows Exponent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ows * columns e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dList Pac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of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ment, maxent, delta, &amp; array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Limited like Multi-Dimension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Data Types fo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-Dimension Arrays Make S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All Data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hematical Mat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rays of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of Character Po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 of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manipu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e pointer, not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3.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qsort to sort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g Data is never 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ly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ircular List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osephus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ny-Meeny, Acca-Bok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3.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with Program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ive of Eratosthenes (finding prime numb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Design is Critical to Su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't solve one using the other's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ulti-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Lists for Sam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ous Sort 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ous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try contains several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s stored within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modify data to create new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List Package Can Add Lists w/o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ulti-List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SS Operating System Schedul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try for each Schedule Tabl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mory, I/O, Paging, CPU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exit for each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ask Exceeded Limit, Used Ex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Priority Level w/ Different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List Pac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t is external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al lists can be created eas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m Structs Can Contain Other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ic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 of Albu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bum Has List of So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Have Other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 of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s of So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raph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lationships Between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Travel Along Edges to Other Ver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ke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jacency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 Redistric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vide State into Electorial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umeration Distr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pulation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est Census Distr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bine Enumeration Distr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qual Size Electorial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act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jacency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mber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Dimensional Array (Matri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resent if two vertices are ad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of Lists (Grap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des Connected to Give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-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Node Contains List of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come Unwiel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atrix or Grap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ch to 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rix Is F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ph is Com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arse or De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Dense, Us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parse, Use Grap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 to Fig 1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jacency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Only Inform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Algorithm to Work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Traverse the Dat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Search the Dat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ends on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ends on Problem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oose Wise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Structure Effects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Things Ea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adj[i][j]) /*Connected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Thing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 (x=adj[i];x!=NULL&amp;&amp;x-&gt;v!=j; x=x-&gt;nex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ch Data Structure &amp;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Art (or Luck), Not a Sc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 Programs 3.8 &amp; 3.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versing a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verse Order of Nodes in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 Copy of List, inserting a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link t, ret = NUL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while (list != NULL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=list-&gt;next; list-&gt;next = r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t = list; list=t;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eturn re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troys Old List, could make co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Insertion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 insertion Point in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Node to Preserve Sort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3.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Destroys Input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Have Two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ead &amp; Tail Conven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ble 3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, Never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d and/or Tail can be N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mmy Head Node, NULL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mmy Head &amp; Tail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are Linked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ch One to Use Depends on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List Pac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s 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Head, Tail, and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s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Pointer to Data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Nodes Can Point to Same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ve Two Lists Pointing to Sam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e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Node After Specified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Node After Specified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 Nex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 Item for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ed Interface for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ouble 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m, Next, Pre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Move forward or back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ve to Keep Track of Both Po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Val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ent-&gt;next-&gt;prev != 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/* error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mory Allo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cate &amp; Free Memory for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intain Free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cate Block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 of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 by block #,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arbag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laim Fre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