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Has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and Hash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ify Hash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pper Limit of Hash Value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Re-Hash Each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nsive but Infreq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Schedule Resi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uring Idle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Have Two Tables 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Ha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ash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llision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ouble Ha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ynamic Ha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as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Buckets fo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Bucket has a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ign Each Key a Bu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shing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 Appropriate Bu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ashing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s Each Key to a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ite Range (Can Use Modu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mber Must Be Consis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sed Solely On 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mbers Evenly Distrib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ign Bucket for Each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ashing Function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at Entire Key as a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Subset of Key as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All Characters in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lusive Or All Characters in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y Formula to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: 610-555-12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sh: (610 + 555 + 1234) % 1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llusion Re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wo Entries Have Same Hash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ple Entries in Same Bucket (Coll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Next Free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Sub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Hash Table 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ond Hash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build Hash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 H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nd Next Free En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Have Less Entries Than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Slot Empty (or Available), Use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t, Find Next Free S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arch for Empty or Available S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areful When Deleting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rk Entry as "Available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Sear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arch Until Empty Slot (not just Avail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eate Sub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Slot is a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lot is Starting Point to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 List for 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be Sorted or Maybe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ndle Empty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ouble Has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Second Hash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Storing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First Slot is Full, Use Second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Searching for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First Slot Empty, Not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Deletion Marks Entries "Availabl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No Match, Try Second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