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Structures &amp;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ectur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ivide &amp; Conquer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eak large Problem into Smaller 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inue Until Solution 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oll Solutions back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ursion Natural Way to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ynamic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ve Intermittent Calc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uces Computation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ibonacci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b(0) :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b(1) :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b(n) := Fib(n-1) + Fib(n-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5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7080" indent="-25560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ery in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5.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7080" indent="-25560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ynamic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bonacci.c compares the two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70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Knapsack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ef Robbing a Sa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Knaps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fferent Sized Arti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enough room for every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to  take the maximum val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nest Applications a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ipping, Packing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cursive Knapsack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ume N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napsack of M (&lt; 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nd Optimum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napsack of M2 (&gt;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 Some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pacity of M le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Previous Optimal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ynamic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esn't work the other way (small to lar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cur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outine That Calls It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rminating Cri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c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ct(n) := n * Fact(n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erative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ct(n) := 1*2*3* ... *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nguage/OS Support V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ductive Reas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Bag of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ny number (n) is there, so is (n+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is in the b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in the ba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f 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ny number (n) is there, so is (n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in the ba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cursive Algorithm Proo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gorithm A(n) th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ks for n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It Works for n, It Works for n+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Works for All Positiv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it Works for n, it works for n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works for all negativ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cursiv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ursive Factorial Function (prog 5.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nt factorial(int 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{ /* I would use (N &lt;= 0)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f (N == 0) return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return N*factorial(N-1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erative Version of Fac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or (i=1,t=1; i&lt;=N; i++) t*=i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cursiv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It Boun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There a Min and/or Max valu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es It Termina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ll It Run Forev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st if Arguments are Monoto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inually Decrease to  lower limit (e.g., z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 Increase Towards Some Max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Questionable Recursive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6640" indent="-29664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5.2 (See Source Co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6640" indent="-2966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es This Program Termina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int puzzle(int 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if (N == 1) return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if (N % 2 ==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return puzzle(N/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else return puzzle(3*N+1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6640" indent="-2966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N even, next arg is less, but more if od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uclid's GCD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eatest Common Divi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-27540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rgest integer dividing two integers eve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clid's GCD Algorithm (Prog 5.3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nt gcd(int m, int 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{ /* n can be negative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f (n == 0) return 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return gcd(n, m % n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cursive Prefix Evalua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 5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ursion Easy to W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ften Difficult to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 careful of recursion dep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Resource H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Data Structures &amp; Algorithms</dc:title>
</cp:coreProperties>
</file>