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95000"/>
              </a:lnSpc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valu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kill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w of H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ze up Team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spect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hy C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to learn,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remely Por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y Power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y not 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the Same 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't Need OO for Data Structures &amp; Al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O Doesn't Imply Data Structures &amp; Al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Whatever Language You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lgorithms &amp; Heu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 Plan,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Used for Man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u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aluation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ess, H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blem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veloping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Problem Cor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Abstra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lve General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ing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t It 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st Thoroug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 Try to Im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it Good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termine Where Time is Sp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 on That Po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nectivity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ction 1.2 (Figure 1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Saving Info Doesn't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ly Changes When the Problem is 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on-Find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Connectivity 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Connected Nodes Have Sam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wo Nodes Have Sam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y are 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nion Find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Array for 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nect Each Point to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with N Sets of siz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Connection 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nect One Point to the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nge Value to Value of Other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st Change All Points With Given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 prog1_1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 Union Find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e Array as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ues form list of conn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st Node Points to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 prog1_2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lete, Specific Problem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with Simpl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rove Implementation &amp; Val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igh-Level Abstract Data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y for Worst-Case Guaren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ys to organiz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resent physical or logic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relationships between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ys to ac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arch for specific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ify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ded on Understanding of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on programming 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hy Analyze Algorithm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rmine Speed Relative to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rease from 1 to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uter 10 times f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Increases Lin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0*1/10 = 10 times l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Increases n*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0*100/10=1000 times l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ick Survey of Data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s,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e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ed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eam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-5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 least one FT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more than 1 non-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Report (3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dividual Report (7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ekly Status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-Mail text files (not MS-Wor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ject Te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ign R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cides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ad Programmer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chnical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es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on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ck Team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op Level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Major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Attributes,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vide Into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nterface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ule Calls Other 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Common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ign Modules to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connection Doc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Header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jor Attributes (finish l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face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Naming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Sourc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ext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itial Sourc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for Each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mmy Interface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ubs &amp; D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 Remaining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velopment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stribute Copies of Sourc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fin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g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istrib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E-Mail to communi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eb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5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s from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damentals Notes &amp; Sourc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pl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Demo, LinkList, ProdList, area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De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Any of th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 is, or for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