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88"/>
              </a:spcBef>
              <a:buClr>
                <a:srgbClr val="ffffff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88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88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Data Structures &amp; Algorith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Lecture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Visiting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eor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de, Left, R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or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eft, Node, R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stOr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eft, Right, N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Tree Search Algorith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pth Fir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o Down When Possible (Postord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readth Fir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lore Entire Level Fir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ust Keep List of Unvisited No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ybrid 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cide Based on Other Crite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e.g., Heuristi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Generic Search Algorith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lace Root on Todo L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o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ToDo List Empty, Return "No Solution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move Node from Todo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Solution, Return N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lace Children on Todo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nd Lo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Generic Search Algorith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ehavior Depends on Two Th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rder Nodes are Removed from ToDo 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rder Children are Placed on ToDo 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pth Fir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t in Front, Take from Fro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readth Fir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t in Back, Take from Fro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Use Heuristic Values to Order L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tacks and Tree Travers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ush Nodes to Visit on St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eor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ight, Left, N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or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ight, Node, Le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stor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de, Right, Le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p in Reverse Order &amp; Process N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Recursive Tree Travers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gram 5.1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void traverse(link h, void (*visit)(link)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{ /* preorder *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if (h == NULL) return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(*visit)(h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traverse(h-&gt;l, visit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traverse(h-&gt;r, visit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Non-Recursive Travers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g 5.1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void traverse(link h, void (*visit)(link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{ STACKinit(max); STACKpush(h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while (!STACKempty(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{ (*visit)(h = STACKpop()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if(h-&gt;r!=NULL)STACKpush(h-&gt;r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if(h-&gt;l!=NULL)STACKpush(h-&gt;l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} 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Tourna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ke Sports Playoff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mpare Two No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inner Advances to Next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inner Based on Various Crite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onstructing a Tourna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g 5.1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Single Node, Return Va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lse Return Max of Left &amp; Right Tre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e Source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cludes Prog 5.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arse Tre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present Expr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erators are No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erands are Child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eaf No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st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ari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Tre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llection of No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y Have One Pa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y Have Zero, One or Two Child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des Connected by a P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llection of No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No Parent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oot Node (To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No Childr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eaf Node (Botto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Building A Parse Tre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g 5.20 (See Source Cod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efix Exp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uild Node w/ Tok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Oper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arse Left &amp; R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turn N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Graph Depth First Sear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g 5.2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raverse N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sit N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rk Node Visi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oop Thru Connected No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f Not Visited, Traverse N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seful for Garbage Coll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Breadth First Sear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g 5.2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nqueue Root N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ile Queue Not Emp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queue N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not Visited, Visit N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oop Thru Connected No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f Not Visited, Queue N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Variations of Sear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uristic 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rder by Heuristic Va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ook at "Best Possible" Node Fir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y Not Find Optimal 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* 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rder ToDo 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orted by Depth &amp; Heuristic Va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nd Shortest 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erspectiv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cursion Very Han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ut Can be Ineffic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sign Efficient Algorith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ilor Algorithm to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alyze Algorith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Rooted Tre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sually Just Called T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ne Root N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y N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s the Root of a SubT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ven Leaf Nodes (Single Node Tre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ingle Path from Root N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t Most One Visit Per N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Other Tree Ty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dered T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rder of Nodes is signific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-ary T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pecific Number of Children No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ree T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re than One Root N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Binary Tre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n-Leaf Node Has Two Child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eft &amp; Right Child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ne might be emp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very N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ither a Leaf N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r the Root Node of a (non-empty) Subt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very Non-Leaf N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hildren are Leaf Nodes or Subtr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eft &amp; Right Subtr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Grap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3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ke T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l Trees are Grap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imple P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llection of Unique No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ne Simple Path Between Any Two No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raph or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re than One Path Between Some Two No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Level of Tre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oot Node is Level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evel of N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ne More Than Parent N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Inductive Defini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ight of T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evel of Deepest Leaf N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Binary Tre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ery Common in Program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alanced T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pth of All Leaf Nodes Equ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r at Least Clo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ke a Binary 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Traversing a Tre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art at Ro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isit Every N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Node Visited Before, Skip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ll Pringle</dc:creator>
  <dc:description/>
  <dc:language>en-US</dc:language>
  <cp:lastModifiedBy>Bill Pringle</cp:lastModifiedBy>
  <cp:revision>0</cp:revision>
  <dc:subject/>
  <dc:title>Data Structures &amp; Algorithms</dc:title>
</cp:coreProperties>
</file>