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4CCA-381A-4FC4-B408-F256554CC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48ED-9FA0-4A12-B22C-13D3547C3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2502-14D5-4129-945B-091BD45F9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6138-56C2-4301-8666-62D5F9966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8202-08FA-4990-89A0-4892E05BE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252D-888E-4E91-9BF7-E94DAA350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B9C0-C110-4512-A7C3-C47D975F2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F705-1B32-4FF8-8974-A356C292F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BE2D-E5F4-4BEA-9D17-0608DFC01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624D-6779-4688-A7EF-0CAA8CD73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4D61-7CF5-4100-B38B-8D85FFC72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C06C-D8F4-418D-9826-2DFBC9A3B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E8E85-8581-4F17-B83B-C88BA60E9C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ata Structures &amp; Algorithm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cture 1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ternal Sor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-Tree Sequential Acces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All Data at Leaf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Leaf Nodes Linked Toge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wd &amp; Bwd Links Between No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Read Data Sequential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tendible hash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b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s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lti-Tre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quential Acc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tendible Hashing (cont'd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h to Obtain Ke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-Tree Like Directories of Ke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ge Contains Multiple Director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range Directories to Reduce Prob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 Directories Per p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ot Always in Mem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N-1 Additional Levels, if Po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ep Child with Parent Where Po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Chapter 1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External Search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Index Sequent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B-Tre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Extendible Hash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ternal Search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rge Data Struct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External Stor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 Datab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arch &amp; Inse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sign Criteri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/O Time Domina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vide into Pa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ge Contains It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ferences are Page-Off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reating Index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dex in Static 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ta May Be Dynam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arch/Insert Trade-Of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ider Frequ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bstract Index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n't Get Too Specif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rtual Mem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le Syst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ging Syst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dexed Sequential Acces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dex is B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ot Always in Mem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xed Tree Dep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erflow Pages as Nee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-Tre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ways Balanc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SubTrees Per N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ows from Bottom 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rinks from Top Dow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fficient Sear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-Tree No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de Can have Up to X SubTre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fine Optimium Ran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x of M SubTre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n of N SubTre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Too Full, Spl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Too Empty, Me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Do Maintenance When Id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23:53:14Z</dcterms:created>
  <dc:creator>Bill Pringle</dc:creator>
  <dc:description/>
  <dc:language>en-US</dc:language>
  <cp:lastModifiedBy>Bill Pringle</cp:lastModifiedBy>
  <dcterms:modified xsi:type="dcterms:W3CDTF">2002-01-07T00:41:34Z</dcterms:modified>
  <cp:revision>4</cp:revision>
  <dc:subject/>
  <dc:title>Data Structures &amp; Algorithms</dc:title>
</cp:coreProperties>
</file>