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428 Lecture 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rogramming Languages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Syntax, Semantics, and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ters 3 &amp;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perator Prece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to evalua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= b + c *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uld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= b + (c *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= (b + c) *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con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so, Left to Right or Right to Lef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perator Behavi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Associ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A + (B + C) = (A + B) +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istribu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A * ( B + C) = (A*B) + (A*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Reflex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A + B = B +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to simplify 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ssocia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+ (b + c) = (a + b) +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ition &amp; Sub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ication &amp; Di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same type of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't Mix the two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+ (b - c) = (a + b) -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+ (b * c) != (a + b) *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istribu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* (b + c) = (a*b) + (a*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ition  &amp; Multi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Subtraction or Di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flex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+ b = b +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ition &amp; Multi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Subtraction or Di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on-Arithmetic Opera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ider Rotation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quare Card or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otation Right/Left at 90@ inc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1, R2, R3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1, L2, L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4 = L4, R1 = L3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lip C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X, Y axis or Diag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ociative? Distributive? Reflectiv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mbiguous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(a&lt;b) 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x&gt;y)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=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=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's the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is a=c execu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mantics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: b=1; c=2; a = b / c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are values of a and (b/c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loat a, b,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 a, b,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loat a; int b,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 a, b; float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 a; float b,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und up or trunc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Name 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pecial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Key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Reserved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ymbol 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ame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ames usual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 with a l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st alphanum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paration char (e.g., _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ght be Case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 case forced (e.g., V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ght have length lim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 significant charac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yntax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Language 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yntax N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emantics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Ambigu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N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pecial Wo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erved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ve Special Meaning to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't be used for user defined ident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gnificance based on Seman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not be Reserved (bad ide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yntactical Signific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iginal Basic: I, I%, I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ymbol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ress / 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ype, including size (e.g., short or lo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ze (e.g., Array size, length of char strin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y Value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ias (if an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ame Bin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yna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toma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loc/F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ck &amp; Heap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location of VM to 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rly vs Late B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tomatic Creation if unknown? (e.g., Bas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ype Chec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 vs Loose Ty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utomatic Con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 a; float b; a = b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licit Conversion (Cast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 a, b; float c; c = (float)a/(float) b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arameter Chec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ameter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 foo(float a, float b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 x, y, z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z = foo(y, z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sue error msg &amp; refuse to comp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sue warning msg &amp; do nothing 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sue warning msg &amp; coerce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lently ignore &amp; do n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lobal to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lobal to Sourc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cal to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cal to Statement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ic vs Dynamic 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tomatic Cre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Lifsp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RAN, Ba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uto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licit: Allocate/Dealloc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,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isc.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ymbolic 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"mystify" type chec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riable Initi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c vs Autom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't assume unless specified in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ynamic Arrays i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dList package on home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anguage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nds, Operators, Deli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e, Deli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de-Of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ading, Writing, Par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anguage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ement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ually Deli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metimes Key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GIN ...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metimes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B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yntax No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BNF N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Ya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arse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yntax 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ackus-Naur Form (BNF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Yacc converts BNF to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&lt;assign&gt; -&gt; &lt;var&gt; = &lt;expr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expr -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lt;variab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lt;constan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lt;expr&gt; &lt;binop&gt; &lt;exp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lt;unop&gt; &lt;exp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(&lt;expr&gt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ition can be recur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YAC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Yet Another Compiler-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 your own language and/or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put file in BNF n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ntax of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ociated code to be gene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se &amp; recognize syntax in source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rate appropriate code in output/object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ten output file is C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arse Tre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= b + c * 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oot Node reflect statement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 for assignment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eft Node is Assignment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ght Node is Assignment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mediate Nodes are Ope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af Nodes are Oper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mbigu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Operator Prece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Associative / Distributive Ope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Ambiguous 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Programming Languages Concepts</dc:title>
</cp:coreProperties>
</file>