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Lecture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rogramming Languages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Data Types &amp; Assignment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 6 &amp;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tic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d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be Created at Load or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gically Exists during entire exec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 Data cannot be cr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May be Supp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s Late Binding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created "on the fly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not be controlled by user (Ja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cilitate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, Malloc,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icitly Free, 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ser Defined 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onyms for Other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ouping of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Contain Other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, Offset,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&amp;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xtEntry, Super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ve Subrec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s containing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calars and Coll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lle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ssociate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Un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ex / Subscript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itialization (e.g, int a[5] = { 1,2,3,4,5};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Dimensions (e.g., int a[2][3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lices (portion of an arr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s (e.g., Matrix Oper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vs Dynamic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izing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ssociative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e Correspo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n-Numeric Inde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NO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ng]Aw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QL Record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nion 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are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M - EQU, Org &amp; 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RAN - 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BOL - Redef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- Un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Data Types in Same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Type Fl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ext Might be Adequ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llection 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 Types (e.g., LinkedList  pack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refere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blems - Unitialized, Stale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umeration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Abstract Data Types (AD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-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pressions &amp;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rithmetic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verloaded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ype Con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elational &amp; Boolean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hort-Circuit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ssignment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ynam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ointers &amp;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xpressions and Assignment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ithmetic Expres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 Associa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nd Evaluation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heses to Override Default 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 = A + FUN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f FUN changes the value of its argu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value of A is used w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FUN called first or second? (RtoL or L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verloaded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ful in Object Oriente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me Operator has Different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ends on Type of Ope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= b / c (int vs float div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: a = b +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f b &amp; c are in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f b &amp; c are 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f b &amp; c are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r Defined Operators (e.g., C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ype Conver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sum, count; float av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g = sum / cou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icit 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 Coercion: a = 1 + 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licit 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 or Macro: FLOAT(SU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sting: (float)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lational &amp; Boole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ten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ly needs to be a bit, but often a 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ero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rything Else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lusiv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hort Circuit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: (A*B) * (C+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A is Zer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: (A &gt;= B) AND (X &lt; 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A &lt; B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All Languages Support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ar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i &gt; =0 and tbl[i] &gt;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no short-circuit evalu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ssignment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Targets – be car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a = b = 0; (a is 1 for Bas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ue of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a=b) x = 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xed Mode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 a; float b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a = b +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Numeric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mory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, Short &amp; Extended Pr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Character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ingle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haracter 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ingle Charac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alar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ten Similar to Small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arison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gned vs Un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ithmetic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(Upper &amp; Low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te vs Integer (or Sh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ization can't be done with 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Separat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Length of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haracter String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ength of St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ngth Field (e.g., Bas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imeter (e.g.,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xed Size (e.g., Liter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xed or Variable String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ize existing string "in place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new string each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mifications for Java &amp; A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aracter String Op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ract and/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place w/ same size or different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fferent size =&gt; new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vs Static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ynam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an be Created "on the fly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Lecture 5</dc:title>
</cp:coreProperties>
</file>