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Lectur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rogramming Language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iteria - Data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ndardized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ger, floating point, character 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r defined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 structures, AD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&amp; Static Al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, Block-Offset, Array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iteria -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ntax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 100  I=1,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 100  I=1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/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 100 I=1,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ssing semi-colon, brace, closing commen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rote a program to look for missing */ 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Infl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uter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tch-Decode-Execute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allel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tworked / Distributed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 /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net, WW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ming Methodolo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uctur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ads &amp; Concur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Trade-Of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liability vs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lexibility vs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vs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Net Guidelines – avoid OO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ability vs Write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perat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m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im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achine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w Machin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s and 0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emble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addressing &amp; symbolic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ro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nge the nature of the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 Mark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perating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S/3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n Solaris &amp; networ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c O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acle Raw I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/S mostly for multi-task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ile/Interpret/Emul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x - Ya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-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m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t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urce vs P-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mulator / Sim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SS - 3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ming Environ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tings &amp; Memory Du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veral hours turn around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x &amp; Debug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uge box of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ant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s it help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ok thinks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ming  Concep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Just Programming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Just Language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do features affect S/W 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bugging/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urse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m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sit o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rrow heav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mester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in experience with different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rite paper about your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ade is on the paper, not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ject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-5 People Per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asons for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Horiz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arn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ose Right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arn to Pa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derstand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ign New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vance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ming Doma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emb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ientific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sin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BOL, R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tificial Intelli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P, Small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stems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x /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ripting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WK, Perl, S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et, W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ML, J2EE,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al 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ula, APGs, AS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Evaluation Crite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riteria Over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Orthog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ntro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Data Types &amp;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yntax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iteria - Simpli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icity vs Conven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sy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conven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ts of convenient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rd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a Language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e to Read &amp; Wri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iteria - Orthog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thog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set of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 exce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de Of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set of primitives Easy to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s Exceptions to the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 10/20 N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raptions in English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iteria - Control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er normal flow of ex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To &amp; Var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icult to follow &amp; deb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uctur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ndardized control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-then-else, for, whil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to port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Programming Language Concepts</dc:title>
</cp:coreProperties>
</file>