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spcBef>
                <a:spcPts val="788"/>
              </a:spcBef>
              <a:buClr>
                <a:srgbClr val="ffffff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88"/>
              </a:spcBef>
              <a:buClr>
                <a:srgbClr val="ffffff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88"/>
              </a:spcBef>
              <a:buClr>
                <a:srgbClr val="ffffff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88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88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CSE 428 - Lecture 9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Concur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Chapter 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Types of Concurrenc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Competi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Cooper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Competitiv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2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-284040">
              <a:lnSpc>
                <a:spcPct val="95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mpete for same resour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an be alleviated with more resour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revent simultaneous use of same re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ocking mechanis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asks control resour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lient - Ser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entralizes control in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lient requests resources, server dispen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Cooperativ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7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asks agree on ac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ach task must follow the r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ake tur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o some, then give up contr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leep() or wait() in 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oEvents in V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ducer - Consum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utput of one task is input to ano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Task Schedul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S or Task Schedul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ntrols what tasks run and wh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nitors the status of tas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andles excep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Task St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N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Runnable or Rea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Run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Block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99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Times New Roman"/>
              </a:rPr>
              <a:t>Detect Deadlock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De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New Tas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reate necessary control bloc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rack task stat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termine prerequisites for tas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vices requi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sour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isks, tape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ark task as runnable when all avail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Runnable or Ready Tas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2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s capable of run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o outstanding resources, requir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ossibly two que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ne for those being executed on time slice ba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other for those that can be ru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source status can change st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quired resource becomes not avail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Running Tas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ask currently being execu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ecessary resources locked by tas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Blocked Tas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ad been  run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spended for one of several reas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source not avail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aiting for I/O operation to comple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aiting for resour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nce available, task is Rea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reful of deadloc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flicts over resour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9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Dead Tas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-284040">
              <a:lnSpc>
                <a:spcPct val="95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ecution comple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mpletion stat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ormal termin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f-terminated with err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88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ask detected error &amp; termin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ermin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88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O/S or scheduler detected error &amp; terminated tas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lease resour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ree control bloc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Concurrenc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2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oing two things at o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ort o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ypes of Concurr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hysi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ogi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re the tasks relat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f so, it is harder to coordin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Deadlock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14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-284040">
              <a:lnSpc>
                <a:spcPct val="95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flict in resour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sider Tape Drives 1 &amp;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ask A &amp; B both need two driv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ask A gets drive 1 &amp; waits for drive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ask B gets drive 2 &amp; waits for drive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asks will wait for ever - deadlock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flict resolution is necess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Deadlock Resolu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3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-284040">
              <a:lnSpc>
                <a:spcPct val="95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revention is better than res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t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ime out waiting for re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lease resources currently he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it random period of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quest resources ag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rio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igh level task pre-empts lower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Concurrency Mechanis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Semaph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Moni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Message Pass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Ada Concurr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Java Threa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Special Language Consider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Semapho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-284040">
              <a:lnSpc>
                <a:spcPct val="95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jkstra P &amp; 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etch &amp; Depos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un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ow many avail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ust be atom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88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Decrement to alloc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88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Increment to fre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f  max counter 0, lock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88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ait for counter to go posi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Monito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-284040">
              <a:lnSpc>
                <a:spcPct val="95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ingle task in charge of resour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lient/Ser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lient requests resour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rver allocates resour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f none avail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88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lient han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88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lient tries again la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at if Server is multi-thre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an still work, if done r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Message Pass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asks send mess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ask can block incoming mess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asks can wait for mess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ndezvo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wo tasks ready &amp; willing to communic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ender ready to se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ceiver ready to rece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Ada 83 Concurrenc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n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ntry point for modu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ccep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ask ready to accept msg for entry poi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Accept encountered first, task ha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sender sends first, sender ha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ndezvous when both rea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Ada 95 Concurrenc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tected Ob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ike monitor, ser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ntry Points &amp; Data val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ata only available from internal modu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ntry points provide synchroniz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Java Threa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-284040">
              <a:lnSpc>
                <a:spcPct val="95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read Class or Inte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le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88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ask is suspended for period of t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yie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88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ask surrenders control if other things pen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spe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88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ask suspended until restarted (or kille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ynchroniz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nly one thread active within meth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Special Language Consider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atement Level Concurr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reak complex calculation into ter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xecute each term on separate mach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erge resul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everal FORTRAN vari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Multi-Task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ultiple Tas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ingle Process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aking Tur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ior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adloc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Multi-Processor Archite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-284040">
              <a:lnSpc>
                <a:spcPct val="95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ingle machine, multiple process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wo Configur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perate independent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ach CPU has registers &amp; local mem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hare common memory lo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ave own registers, PSW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dundant architec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oth machines run in lock-st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y difference generates an err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Parallel Comput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-284040">
              <a:lnSpc>
                <a:spcPct val="95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ingle program, multiple CP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rogram broken into independent seg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alculations done in parall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sults combi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ften independent of langu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pecial compilers for langu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ORTR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Networked Comput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ultiple computers networked toge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W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lusters and Gri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essages passed back and for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ockets, pipe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andle dropped conne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pplication handles err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Non-Programming Concurrenc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Gant Cha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ritical Path Analy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ythical Man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Solving Deadlock Proble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Detecting Deadloc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Preventing Deadloc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Resolving Deadloc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Task Rel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asks not dependent on each o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rder of turns doesn't mat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asks dependent on each o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rder of turns mat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ill Pringle</dc:creator>
  <dc:description/>
  <dc:language>en-US</dc:language>
  <cp:lastModifiedBy>Bill Pringle</cp:lastModifiedBy>
  <cp:revision>0</cp:revision>
  <dc:subject/>
  <dc:title>CSE 428 - Lecture 9</dc:title>
</cp:coreProperties>
</file>