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Lecture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rogramming Languages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rsing Ap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ndard or AS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unication Me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tract Info from Reports, external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late Form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lidate Form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e.g., validate HTML, X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S Co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J-C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dio Cassette Co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itten i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s Functionality for J Co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plication Specific Language (AS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rates the Cassette Co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S Cover Functi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rogram Reads Input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Translates into PS Cover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Language Actually Postscrip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reates PostScript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ostscript File Executed by Pri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S Cover Input Fi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L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Command&gt; &lt;Argumen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tist Cheryl Whee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tle Live at the Tin Ang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ft So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tab&gt;Driving Home&lt;tab&gt;2: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nguage Describes Cassette C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yntax Designed for User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S Cover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tScript Functions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ftSongs, LeftCover, Artist, Ti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yntax than PS Cover Input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heryl Wheeler) Ar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Live at the Tin Angel) Ti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ftSo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ult is a PostScript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S Cover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Program generates PostScr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Writes PS Cover Postscript Func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tscript Program /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mplements  PS Cover Functions (Artist, Title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ads Input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utputs PS Cover Com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anslated from Input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put (PostScript) sent to Pri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heryl Wheeler Web Si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bTools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put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 of Albu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 of So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ck Listings of Albu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xt Discussion of Albums, So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Program Builds 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HTML with Mac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WebTools Macr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put HTML p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py Lines Un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es Starting with Greater Than (&gt;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cro Name Foll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(Most Recent) Match i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cro Replaces Macro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gs $[1], $[2], etc. Inserted at ru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DoThis|First|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WebTools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Sample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&gt;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This is a sample paragrap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&gt;NormN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Here is another paragrap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&gt;Norm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WebTool Mac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gt;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lt;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gt;Norm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lt;/p&gt;&lt;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gt;Norm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lt;/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yntax vs Seman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, Appea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al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ames must start with a le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man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ent, Mea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fic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ames must be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erved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utput Fi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&lt;p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This is a sample paragrap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&lt;/p&gt;&lt;p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Here is another paragrap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&lt;/p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nother Macro Fi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table border='0' bgcolor='#c0c0c0'&gt;&lt;tr&gt;&lt;td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NormN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/td&gt;&lt;/tr&gt;&lt;tr&gt;&lt;td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Norm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/td&gt;&lt;/tr&gt;&lt;/table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ew Output Fi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&lt;table border='0' bgcolor='#c0c0c0'&gt;&lt;tr&gt;&lt;td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a sample paragrap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&lt;/td&lt;/tr&gt;&lt;tr&gt;&lt;td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re is another paragrap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&lt;/td&gt;&lt;/tr&gt;&lt;/tabl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SL General Proced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a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sy to Describe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sy to Express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Tran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t Solution to Executabl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ite Parser for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ite Execution Component  if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iler, Interpreter,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Why Bother with AS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Faced with a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e a Program to Solve the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e a Language to Solve a Set of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econd Approach takes Lo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e Short 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peatable  Solution  for Other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avings Increase with Re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Spread 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yntax &amp; Semantic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Social Security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1234 valid?  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123-45-6789 valid? 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this a valid C state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= b +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b not declar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b float, and c ch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b is a func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yntax &amp; Semantics Chec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eck Syntax, then Seman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ntax can eliminate obvious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 if all the variables are valid, it is still wr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mantics require further inves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could be valid, but it might not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bc looks like a variable name, but is it? What typ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eneral Parsing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gest Input 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eak into Tok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bine Tokens into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bine Expressions into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me steps as compilers t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exical Analyz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ognize Tok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k for Start of  Next Token (non-blan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Letter, then a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Digit, then a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therwise an Op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can for End of Token (find invalid ch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turn Token (up to the prev ch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ttle or No Semantics In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yntactical Analyz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ognizes Statements &amp;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oken is "IF" then an "IF" sta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k next for Conditional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Not Found, Syntax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mantical Analyz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you know the syntax i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 the seman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 n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re they declar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e they the proper typ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to do if n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e ele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 Control Structure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expr) stmt; [ else stmt2;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xec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urc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coded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-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ke a Virtual Mach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anslation to Other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ually  C or Machine 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chin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ctual Exec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rdware 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CSE 428 Lecture 4</dc:title>
</cp:coreProperties>
</file>