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SE 428 - Lecture 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Sub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Chapters 9-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ubprograms as Parame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ny languages don't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inters to a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d with Object Oriented Langu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ject contains pointers to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ject contains pointer to parent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per() calls parent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cope of Variab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Lo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St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Autom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Glob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Non-Lo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Glob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Temp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Exter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cope of Local Variab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reated at load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main until execution termin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utom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reated when subprogram activ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stroyed when subprogram retu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yna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ocated and freed explici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Non-Local Variab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lob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ccessible by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emp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ccessible by offset to known 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ucture Pointer, FORTRAN COM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t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vailable to external rout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try points of non-static sub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ference to global 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eparate Compi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ach source file creates objec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ternal 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try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distribute w/o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nker Resolves unresolved 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arch other object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arch library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tic vs Dynamic Li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LL libX.so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Overloading Subprogra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 = max(a, b); z=max(x,y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if  a,b,x,y different typ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n't be in C, can be in C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veral functions with same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rgument count &amp; types distingui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languages support default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ten used as constru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++ Templates aren't really over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re like a macro or #def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User Defined Opera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perator overlo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than converting oper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 = float * 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re like defining a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 = str1 + str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atenate str1 &amp; str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Or add the characters, like Matrix operat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rout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wo interdependent 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 one for a w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n do the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sume where last left o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ful for simu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mulate two tasks at the sam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rt of like concurr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dle Loop Tas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sider time slice 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ess "Save" button on windows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oes cancel work?  Or wait until all ove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rform lengthy 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ecute for a w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, asking to be called ag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pon return, resume where left 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ust retain status in static 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ubprogram Link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nding Entry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tic or Dynamic (compile time or run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 arguments are pass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 values are return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 does routine return to Call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ubpro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ngle Entry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RTRAN ENTRY sta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MS – multiple entries &amp; ex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lling routine susp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bprogram exec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bprogram returns to caller when d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ling Program Continues Exec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program vs Mac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tatic Save Are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M 14,12,12(1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ve Area Ch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't support recur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ame save location used tw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BOL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ynamic Save Are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eated at time of each c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tain necessary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ctivation Rec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leased after subprogram retu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dresses can be type &amp; off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ffset into code or data seg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gister &amp; off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ctivation Reco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ained or on the Call St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turn Address &amp;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y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cal 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cation of static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cation of dynamic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ller Activation Rec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l Ch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de Bloc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(a&lt;b) { int x;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ocal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ist only within code bl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, could be any forward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n-local variables w/ same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uld be flagged as an err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uld be flagged as a w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you access non-local varia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ubprogram Defin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cl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d by calling rout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 Prot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Java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ecuted when 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turn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brout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 value ignored (e.g., void fun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ubprogram Parame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Formal vs Ac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Posit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Pa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Type Che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Array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ormal vs Actual Parame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mal or Dummy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d by sub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ave no actual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nal reference within sub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g1, arg2, arg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ctual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vided by calling rout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 at time of subprogram c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ctual values to be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assing Parame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ss by Name or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iginal variabl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program can modify caller'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ss by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pies of arguments pa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ller's data cannot be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ariable Number of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INT, print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d of parameter flag must be pa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arameter Ty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4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program can only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program can only 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program can reference &amp; 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r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st be Input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only be passed by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arameter Type Chec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f formal &amp; actual args don't matc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iler m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lag as an 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lag as a w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vert from actual to formal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t notice &amp; an error occ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not alway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ameter may have type enco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eneric structure w/ type fla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rray Parame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ss by Name / Address norm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ss by Value is expen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ss portion of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lti-Dimen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asy if dimension part of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wise, subprogram must know 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umber of rows and/or number of colum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CSE 428 - Lecture 7</dc:title>
</cp:coreProperties>
</file>