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FA0-BA57-4B68-9E7B-3E10BC4D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7F1-8B5E-4915-AC07-11102845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2C5-FA54-48DF-B672-010B4B6B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278-9094-497B-A568-A0DAD152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40C-83FC-4BC7-BDA4-A018A963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ECE-3C5C-4E19-A8BB-B18F5E7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FD2-6A46-46A3-8EAC-ECB3EF31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A24-1887-49C8-B082-472F9A1A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BB1-BA2E-400D-B5D1-C35DD7DF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E0A-1AAD-4D94-B206-C7A83B8A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BB6-A79E-409A-9DFF-CBBD1830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89D-C15D-49E1-A136-F6B6781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FC1E-9A06-4A72-A50E-CF4A64D3D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6: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.c: Count Mat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nd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== key) fnd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Found %d times\n", f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.c: List Mat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!= key) contin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ist[fnd] 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nd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Found %d times\n", f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fnd; i++) printf("Loc=%d\n", list[i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ncy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==key) list[fnd++]=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Found %d times\n", f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fnd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Loc=%d\n", list[i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: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List Box for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Text Box for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List Box for Search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Option Box for type of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First, Last, Count, and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Command Button for F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on List enters value in Text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on Search Results Selects List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king End of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 contains max.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times store less than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"marker" to end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lleg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earch up to end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i&lt;MAXENT&amp;&amp;tbl[i]&gt;0;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use MAXENT if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ercial pack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o small sorts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smallest to 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largest to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bble S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e Smallest to T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t top e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rest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ind a smaller entry, swap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one, the smallest is at the 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 with nex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t bottom of table, you ar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ll.c: Move Smallest to T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-1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j=i+1; j &lt; MAXENT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tbl[i] &gt; tbl[j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mp = tbl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i] = tbl[j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j] = t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e Smallest to Bot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t las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rest of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ind any smaller, swap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 next (previous)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reach the top, you ar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.c: Move Smallest to Bot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MAXENT-1; i &gt; 0; i-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j=0; j&lt;i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tbl[j] &lt; tbl[i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mp = tbl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i] = tbl[j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bl[j] = t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have been using character arrays i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 buf[BUFSIZ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ic Arrays are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tbl[100]; /* tbl[0] - tbl[99]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oat amt[5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element is the same (primitive)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bl[4] = 4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t[6] = 3.1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opic will be hard to f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bbl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adjacent ent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y are out of order, swap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first pass, largest at bot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no swaps are made, you ar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bble.c: Bubble 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=MAXENT-1; i &gt; 0; i-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 didswap =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j=0; j &lt; i; j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 if (tbl[j] &gt; tbl[j+1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{ didswap = 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mp = tbl[j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bl[j] = tbl[j+1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bl[j+1] = t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 if (didswap == 0) 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Sorting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Systems have better s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-Sort i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ary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s table is s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est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orted Attribu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Box has Sorted Attrib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entries are inserted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ListS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Sorted property to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Boxes for NumEnts &amp; Max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for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element contains random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emData contains insert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ng List displays loc &amp; ins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, you can initialize arra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vals[5] = {10,20,30,40,50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tbl[] = {1,4,9,25,36,42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amt[25]; /* undefined vals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doesn't support initialized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orm_Load &amp; Form_Activate tr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Box and ComboBox use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Array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MAXENT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tbl[MAXENT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bl[i] = rand() % 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loop to sizeof(tbl)/sizeof(tbl[0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ont'd next sl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ray.c: Display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tbl[%d]=%d\n", i, tbl[i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(i%25)==24) 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Press ENTER to continu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tch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the if stat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: take it  out, chang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: Arr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ListBox to store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ID and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Add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Update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Delete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on list to display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you can update or delete curren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rching T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t on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each entry for match (ke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first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last (latest)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ma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.c: Find First 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== key)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i &lt; MAX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In loc %d\n", 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printf("Not found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st.c: Find Last 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nd = -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i &lt; MAXENT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tbl[i] == key) fnd 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fnd &gt; 0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Loc=%d\n", fn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printf("Not found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18:33:16Z</dcterms:created>
  <dc:creator>Bill Pringle</dc:creator>
  <dc:description/>
  <dc:language>en-US</dc:language>
  <cp:lastModifiedBy>Bill Pringle</cp:lastModifiedBy>
  <dcterms:modified xsi:type="dcterms:W3CDTF">2000-09-04T22:39:17Z</dcterms:modified>
  <cp:revision>15</cp:revision>
  <dc:subject/>
  <dc:title>Fundamentals of Programming</dc:title>
</cp:coreProperties>
</file>