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EC9-FAC2-486E-886F-53BFE840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FCD-96BB-437E-B887-53924C37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3C8-EAC2-4175-ACE2-7895D6A4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2603-7E09-47FA-818B-78D8A9F8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39D-F0D3-475D-BA74-71D07EAE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871-1F52-46C4-AC26-F07CE52A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F20-42F4-4F92-A0E9-7540E014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CC19-6250-435D-B6BC-561A8B4C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180-EA76-493E-B1F6-5B503E13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761-4A9F-40D6-9FA9-943155FB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630-0426-449D-8DA9-45F361C7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F393-F194-4390-AB90-C00A4B26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355C-F2B0-4589-A534-D3E4A292A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damentals of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2: Intro to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 Add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#include &lt;stdio.h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int main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a=4, b=6, 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 = a + b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%d+%d is %d\n",a,b,c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tting Numbers from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declaration se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buf[BUFSIZ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nu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you need a numb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Enter whole number: 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um = atoi(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 GetInt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main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har buf[BUFSIZ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t nu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"Enter a number: 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um=atoi(bu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ntf("You entered %d\n", nu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verting Strings to Numb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sca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(gets) character string, then conv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i(str) - inte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l(str) - long inte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f(str) - do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 AddNums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program to input two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one number, then get an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them num1 and num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&amp;  display the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ter first number: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ter second number: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12+4 is 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 AddNu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wo text boxes for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xtNum1, txtNum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ext box for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xt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button to do ad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dA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ntf Format: Advanc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[-]w.p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g left justif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 - wid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columns for entire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- pre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y with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 - length indic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 letter ‘l’ if data i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 - format (%d, %f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ntf Format: Precision (Advance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at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positions to right of deci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um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7.2f (width 7, 2 decimal plac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Program Add4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Four Numbers from U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Numbers ent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Number Line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5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4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a: Print the total of the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 ListNu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List Box for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stNu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Text Boxes for Input &amp; Tot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xtNum, txt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Command Button for A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mdAd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button pu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 to 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 to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stNums.additem txtNum.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er change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, 42.5, BUFSI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change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, total, ave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Characters &amp; Character Str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gle charac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har ch = 'a'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har *str = "Hello, World!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har buf[BUFSIZ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Single Charac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character 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0 to 25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lose is single quotes: 'a'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specify binary val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zero = '\0'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ten = '\012'; /* octal 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life = 42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fox = 0xff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Character Str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of charac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s in binary z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lose in double qu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*msg1 = "This is a test"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Character Array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xed (maximum)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 buf[BUFSIZ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tring ends with binary z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abc" contains a, b, c, '\0'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arrays can have extra ro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msg[80] = "abc"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msg[4] thru msg[79] are unkn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C Character Array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with 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(bu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 key gets changed to binary z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't use in assignment sta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trcpy(buf, "Hello, world!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element is a charac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f[0], buf[1], ... , buf[n-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'n' is the size of the ar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ing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#include &lt;string.h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strcpy(buf, msg)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 msg to bu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strcat(buf, msg2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ends msg2 to bu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len = strlen(buf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s length of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racting with Users: GetS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buf[200]; /* input buffer 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Enter something: 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gets(buf); /*get input from user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You entered: &gt;&gt;%s&lt;&lt;\n", 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The first character: %c\n", buf[0]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String Oper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ft(str, lg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(str, lg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d(str, start, lg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d(str, star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gth = len(st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oking at Characters in Str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positions start with z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char *msg = "ABC"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printf("%c%c%c\n", msg[2], msg[0], msg[1]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 GetSt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 string and arg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ft, Mid, Right Arg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button pressed, process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 Length of Input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ct Left, Mid, and Right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results in appropriate text bo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, l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at, do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, char[100], *ch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ating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ac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er, L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gle, Do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 Decimal Pl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xt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 GetInfo.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buf[BUFSIZ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har fname[20], lname[20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t ag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Enter first name: 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trcpy(fname, 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rintf("Enter last name: 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trcpy(lname, bu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 GetInfo.c (cont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printf("Enter age: "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gets(buf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age = atoi(buf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printf("%s %s, age %d\n", fname, lname, age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n't Use Scan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text books teach you about sca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hard to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y to cause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it like the plag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 program scanf.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use it, just rememb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I told you so!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Program GetInf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 Text Bo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st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and But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ut Text 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Last, age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orary Storage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decla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ing con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 with a l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ters or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$ and _ count as le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signment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e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 a=1, b=2, c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= a + b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will be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Alge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= a +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will b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lts stored in v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m a, b,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= a +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= a +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Printf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ntf(format_string [, data_inserts]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\n - new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sitions data inserts of typ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ntf(“Hi cutie!\n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ntf(“Total is %d\n”, tot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ntf Escape Seque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\n - new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\t - inserts a tab charac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ntf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inse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s - character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d - inte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i - integer (alterna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f - floating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c - single charac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B Dis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text  boxes &amp; lab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y properties or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text for Text Bo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caption for Lab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blStat.caption = “Enter data, then press OK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p-Up Message Bo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sgbox “Messag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1T00:37:51Z</dcterms:created>
  <dc:creator>Bill Pringle</dc:creator>
  <dc:description/>
  <dc:language>en-US</dc:language>
  <cp:lastModifiedBy>Bill Pringle</cp:lastModifiedBy>
  <dcterms:modified xsi:type="dcterms:W3CDTF">2000-09-04T22:18:36Z</dcterms:modified>
  <cp:revision>21</cp:revision>
  <dc:subject/>
  <dc:title>Data</dc:title>
</cp:coreProperties>
</file>