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F89-3650-4A2B-81D7-4247F0BE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AD-727C-4897-BD48-F8B31A5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BF6-F9E0-49A1-98F3-A366F922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3C5-C8DD-4FE1-885A-708DFEF3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10F-C3E5-44F5-A4F8-9EA74DF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F65-4813-44D1-AC58-DA6BF188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17B-2415-4305-B40B-02C2F6C4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E63-C47C-449F-8EC6-767D61B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8C9-5661-44DB-ADB0-7030602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51A-FA0B-4CBD-8ABF-2594278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F9C-E903-4CFE-B8E5-F273DF3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D05-F37D-46E7-A04B-2767D05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BE43-8009-42B3-804B-3DD94FD22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5: Lo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 Program GetN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unction similar to GetI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Loop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cond) { ...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type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only when cond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forever: while (1) { ...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{ ... } while (cond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ant to repeat until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execute block at least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ting User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inite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body should have a break / EXI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 or Iterativ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er increments each time through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 = 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I changes each time through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time is 1, then 2, on up until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 reaches 11, the loop term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 doesn’t have to b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 = 1 to 10 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time 1, then 3, 5, 7, 9, and terminates a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 (init; cond; end) { block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co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loc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s Count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he following program in 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0; i &lt; 10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%d\n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his in VB in Form_Clic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I=1 to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rching With For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e following progr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a lin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or (i=0; buf[i] != '\0'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isdigit(buf[i])) digit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You entered %d digits\n", digi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Square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Enter number, or q to quit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buf[0] == 'q') 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f (buf[0] == '\0') contin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%d squared is %d\n", num, num*n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se (Switch)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 different tasks based on th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chained IF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ic form (neither C nor VB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(ex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val val1: [Statements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val val2: [Statements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fault: 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for menus o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Switch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 (ex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const1: stmts1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const2: stmts2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stmts3;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 must be 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Blocks can have many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ing It Over and O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ing something more than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until a condition happ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as long as a condition happ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Parts to a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(Boolean)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body until conditional is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: Case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witch(buf[0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ns = num1+num2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ns = num1 - num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efaul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f("Invalid operation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elect Case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lect  case ex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xpr-lis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xpr-li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2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[statements3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-list can be like if statement or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 6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to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&l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 can be numeric or string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elect &amp; Loop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Input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phab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ELECT CASE to determin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ndom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for games, simulato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rand(), and VB: rn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s random in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ny value, rnd between 0 &amp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sequence each program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: use modulo to limit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and() % 10; /* 0-9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and() % 10 + 1; /* 1-10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B: Multiply to get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nd() * 10 ' 0 to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rnd() * 10 + 1 ' 1 to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ndom Random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equence of random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d Random Number with random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sran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ng t; /* put with declarations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rand(time(&amp;t)); /* do once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 = rand() % 10; /* random number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: random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andom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 = rnd() mod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random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Quiz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1=rand()%100; num2=rand()%1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ns = num1+num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%d plus %d is: ",num1,num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uess =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guess==ans) printf("yes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lse printf("No, it is %d\n", ans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Qui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Num1 &amp; Nu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Option Box for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User's Answer (Gu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Check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for New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Button to change Max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numbers between 1 and Max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ical Parts to a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Parts to Every Loo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ther Time Through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eople can write "Every Other Tim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&amp; Last times can be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of Infinite 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in the loop should affect the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While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 as long as cond is tr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 (co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cond false, on to next stm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nd false first time, block isn't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While &amp;  Until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 while 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as long as cond i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 until 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[statements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p as long as cond is fa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as DO WHILE NOT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doesn’t support UNTIL l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Do While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do block at leas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as long as cond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 while (cond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e semicolon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nd is false, block done at leas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Do While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ile 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at least once.  Quit when cond 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statement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Until 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at least once.  Quit when cond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 and Brea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e res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back to top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 doesn’t support Conti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e res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out of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 statement is EXIT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GetNum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user for number between 1 and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umber out of range, print msg &amp; 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er number between 1-10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ber 25 is invalid.  Try agai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er number between 1-10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umber 6 is accep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ry for number between 0 and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 wor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why number is wrong (Too big or too sm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 loop if nothing en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2:48:10Z</dcterms:created>
  <dc:creator>Bill Pringle</dc:creator>
  <dc:description/>
  <dc:language>en-US</dc:language>
  <cp:lastModifiedBy>Bill Pringle</cp:lastModifiedBy>
  <dcterms:modified xsi:type="dcterms:W3CDTF">2000-09-11T00:10:45Z</dcterms:modified>
  <cp:revision>34</cp:revision>
  <dc:subject/>
  <dc:title>Fundamentals of Programming</dc:title>
</cp:coreProperties>
</file>