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967B-97A3-44A6-A062-A1F3BBDA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6639-C8CC-4BC3-AA34-1DC6AECD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1385-4CDD-48E8-A9EA-EFD7A67D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A57C-C9A4-4A75-9A08-101C0B70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EFD8-73C5-49C7-AE1E-143E6F56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7EB5-62DE-4429-A638-3699C31F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194C-9712-4984-836E-21DBEB94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AFB4-2118-4DCA-A9D7-E0208855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C990-EC3F-45BB-9F62-5EBEA049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6F7F-2A0E-4179-A75D-E1D42AB5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6D8A-7B0D-498C-B2E8-2063F7FE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E96D-2199-42A8-B84D-5839AC26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B235-9E94-4BA0-87D8-BA9AC06819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damentals of Programm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3: Doing Arithme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Prefix and Postfix Incr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luate Before or After Incr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a = 1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b = a++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 = ++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printf("a=%d, b=%d, c=%d\n"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, b, c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will se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a=3, b=1, c=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Include and Define Stat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iler Pre-Process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iler never sees these 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#incl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ert contents of file into sou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#def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symbolic const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Include Stat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ert copy of file into sou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 &lt;&gt; or local "" ""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#include &lt;stdio.h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#include "myhdr.h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Define Stat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 Substit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mes usually upper c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#define NUMENT 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nt entry[NUMENT]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close expression in parenthe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#define MAXENT (100+5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x = y * MAXEN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s code easier to re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ing C Def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#define NAMELEN 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har buf[BUFSIZ]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har fname[NAMELEN], lname[NAMELEN]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 Revised Program GetInfo.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sic Consta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B Can define con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onst MAXENT = 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like any vari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include files in V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modules and declare Public va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Functions and Subrout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 provides many functions and subrout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 returns a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 = atoi(buf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routine doesn'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s(bu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write your own functions and subrout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Functions and Subrout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to perform common tas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called from various points in pg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er can pass arguments to rou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s the amount of coding requi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s debugging eas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s a single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Functions and Subroutines in 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C there are only fun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ubroutines is a void function in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define a func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urier New"/>
              </a:rPr>
              <a:t>return_type function_name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Courier New"/>
              </a:rPr>
              <a:t>args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 /* start of function *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.. stat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 /* end of function *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() is an int 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laring C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have to be declared before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ke vari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laration is like first line of 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return_type function_name(arg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ice the semicolon at th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no return type, int is assum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rning message about main returning 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sic Arithmeti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ithmetic Expr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+, -, *, /, % (Mod in V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um, 42, t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gnment Stat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ans = num1 + num2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tr = ctr + 1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Functions and Subrout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B Can define functions &amp; subrout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Function Square(num as integer) as inte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quare = num * n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nd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Sub DisplayMsg(msg as Str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sgbox(ms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Get Integer from Us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rrently we d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printf("Enter number: 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gets(buf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num = atoi(buf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can make this into a funct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num = get_int("Enter number: 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Get Int - First Ver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nt get_int(char *ms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har buf[BUFSIZ]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rintf(msg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gets(buf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return atoi(buf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ing C GetInt, Version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u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um = get_int("Enter a number: 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bou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rintf("Enter num ENTER to quit: 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't do that with version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ler doesn't have access to bu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fix that with version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t Int - Version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is version, the caller provides bu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nt get_int(char buf[],char *ms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rintf(msg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gets(buf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return atoi(buf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ller can test for non-integer v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Using Get Int - Version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we can get number &amp; test for 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um=get_int(buf,"Enter num or q: 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f (buf[0]=='q') break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t_int function will still return a 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non-numeric, value will be ze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instead of typing 3 lines, we type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ld write get_float al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GetInt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test for Cancel or no in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OK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ero - normal retu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-zero - error retu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input text is empty, err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cancel button pushed, err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ger Division &amp; Modul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v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ards remai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u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mainder after div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 = 7 / 3; /* a is 2 *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b = 7 % 3; /* b is 1 *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 = 7 \ 3 ‘ a is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B = 7 mod 3 ‘ b is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Program Arith.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 two number from u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sum, difference, product, quot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nter first number: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nter second number: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6 + 2 is 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6 - 2 is 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6 * 2 is 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6 / 2 is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Program Arit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Text Boxes for two Input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Command Button to St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-line output text bo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, Subtract, Multiply, Divide, &amp; Modu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calculation on separate 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able vertical scroll b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der of Operato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ary sig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plication, division, modu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ition, subt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parenthe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x = 10 - 3 * -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 - (3*-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 - (-6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signment Stat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bine assig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a = 1; b = 1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a = b = 1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be same data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ment Va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ounter = counter + 1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nter isn't changed until after expression evalu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Increment and Decr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ment variable by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tr++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rement variable by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left--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ment by th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x += 3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y -= 4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a *= 2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Prefix and Postfix Incr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fix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 = ++b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tfix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 = b++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quivalent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b = b + 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 = b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quivalent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 = b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b = b + 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1T01:14:24Z</dcterms:created>
  <dc:creator>Bill Pringle</dc:creator>
  <dc:description/>
  <dc:language>en-US</dc:language>
  <cp:lastModifiedBy>Bill Pringle</cp:lastModifiedBy>
  <dcterms:modified xsi:type="dcterms:W3CDTF">2000-09-04T22:28:18Z</dcterms:modified>
  <cp:revision>27</cp:revision>
  <dc:subject/>
  <dc:title>Include and Define Statements</dc:title>
</cp:coreProperties>
</file>