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60B-3E5D-4A43-9166-7D44277E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14A-38B4-42D3-825F-2E473D1A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870-8740-4CA6-B54C-2F5ADC7A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5E5-CADE-4D83-81F4-89747644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2D8-315E-4929-839B-808B6E75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B7E-4F1D-4BBF-A211-CAA27C89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27C8-9FC6-43A3-B8EF-7C0524DB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821-C8D9-42AE-AA0F-91735F32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DF9-461B-4178-9708-90D8A08A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162-FDE1-4594-BB66-066F12C2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264-6C92-4DEE-8786-4D54FE8C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9B2-12F4-4379-AD04-287B9F79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D261-0783-48D9-998E-05089C4A3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tion  to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ming Concep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se 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is very pick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s Temp, temp, TEMP all diffe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changing one character &amp; recomp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 error message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 a w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matting C Progra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braces on separate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nt after each open brace: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ent on each close brace: 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ces should line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blank lines to group s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omments 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ent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-line com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mp=current; /*copy curr. val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com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* this is a block com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sual Bas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line is a stat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case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words form groups, not deli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s or Objects on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tons, text boxes, option box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ts &amp; Event Hand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, MouseOver, Change, Get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Visual Basic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lo,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ommand But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ode to Command1_C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sgbox “Thanks, that felt great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isn’t Pick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doesn’t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hould inden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add lots of com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er to get the “Big Picture” with V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easier to do certain things in V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and V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d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 controls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e Sen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ment Delimi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ly Br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i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ole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be graph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s for 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e Insen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ments on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re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ical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be non-vis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++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set of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use C++ Compiler for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Windows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er to learn than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C,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ier than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ole or Vi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Script &amp; VB 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ed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with Web 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 &amp; Server S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rse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Int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Arithm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Dec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Loo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 Review, Q&amp;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F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Book/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glomerate of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ole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 and Sc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, Practice,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y it as outl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code seg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y to change it yourse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ilable on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&amp; V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u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Speed Idi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do m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ew Other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Understand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n't Mad a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Out to Get Y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gnore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aling With Compu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year old with a calcu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very 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assume any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give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t Isn't Eas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Differ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in a new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Unforgi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oom for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think of all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ser will always surprise y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Exactly What You Tell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uter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 file (tex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ad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iler creates Object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hine read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er creates Execu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form 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program controls the 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pr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odes &amp; Exec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program is not in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make more sense as you learn mo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ments end in Semico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ces group statements into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e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lose conditio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p expres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Quotes for single charac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uble Quotes for character str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C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Hello, world!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2:51:43Z</dcterms:created>
  <dc:creator>Bill Pringle</dc:creator>
  <dc:description/>
  <dc:language>en-US</dc:language>
  <cp:lastModifiedBy>Bill Pringle</cp:lastModifiedBy>
  <dcterms:modified xsi:type="dcterms:W3CDTF">2000-09-04T21:57:11Z</dcterms:modified>
  <cp:revision>8</cp:revision>
  <dc:subject/>
  <dc:title>Introduction  to  Programming Concepts</dc:title>
</cp:coreProperties>
</file>