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D83-44C1-4DE6-9CDD-13535F7C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599-4A60-4D10-B2C5-E99F4C7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6B4-9427-405B-B653-22821A4E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DD0-7DE3-4EE2-B259-FF7D7757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F63-9D2C-448A-AFD1-10F5796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674-FAC6-44E4-968C-0C74118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BD2-5895-40AD-9C83-A0FB777C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EF6-B035-456A-AF2E-AAD6AB84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D52-F40D-4BF1-B0E4-F1AC05B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96D-564A-4E2E-81B5-999CB74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065-A972-4967-96F6-28C6729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C9A-36EB-429A-B516-E887159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0DE-0EDC-40E4-AA40-60CC613FF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4: Testing and Dec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sting VB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1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expr2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ing C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one statement will execu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cond1) stmt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if (cond2) stmt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if (cond3) stmt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stmt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lse is used, at least one will exe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braces for statement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ing VB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xpr1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if expr2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if expr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C Program Comp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to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he number 6 is bigger than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bigger, smaller, or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VB Program Comp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Output Text Box for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gger, Smaller, or Eq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 Sales Tax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mount (floating po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der $1, no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ver $1, then  6%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Amount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.5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o 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er Amount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ax is .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: display subtotal, tax, and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 Sales Tax in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Sales 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under $1, no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wise, 6%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rite C Program Cal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two numbers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Operation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Operation: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2 + 4 is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Calcul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wo Text Boxes for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utton Pushed, perform cal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result in answer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Character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Chars are like inte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(c == 'a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ing at characters inside 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buf[0] == '\0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if user pressed ENTER (empty l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buf[0]=='y' || buf[0]=='Y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if user answered 'y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olean Expre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 is true or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uses int for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ro is false, everything else is 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supports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s are True or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ing Character Type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#include &lt;ctype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lpha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digi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pace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prin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cntrl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graph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punc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xdigit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scii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upp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low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low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pper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ing Strings with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Numeric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Null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Empty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case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case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String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ret = strcmp(str1, str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if eq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if str1 &lt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if str1 &gt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sensitive 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insens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cmp(str1, str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othe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Strings in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Variables compared direc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str1 &lt; str2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sgbox str1 &amp;  “ less than “ &amp; st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ison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chained if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ing for single values, not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(intex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1: block1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4: block2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block3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earn more about this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elect case int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2 to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temen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urier Ne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ng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&l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gt;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 &lt;=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 &gt;=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 ==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 !=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&lt;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&gt;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&lt;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&gt;=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&lt;&gt;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olean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a &lt; b)&amp;&amp;(c &gt; 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x &lt; y)||(x &gt; 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&amp;&amp; !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&lt; b and c &gt;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&lt; y or x &gt;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and not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 Carefu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Numbers Satisf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) &amp;&amp; (x &gt;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) || (x &gt;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0) || (x &gt;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(x &lt; 10) &amp;&amp; (x &gt;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ession) stm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ession is true stmt is exec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ession) stmt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else stmt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expression is true stmt1 is exec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wise stm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und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exp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e or more stat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e or more stat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Get in the habit of using br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I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xpr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sting C If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f (exp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f (expr2) stmt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lse stmt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else if (expr3) stmt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1:39:09Z</dcterms:created>
  <dc:creator>Bill Pringle</dc:creator>
  <dc:description/>
  <dc:language>en-US</dc:language>
  <cp:lastModifiedBy>Bill Pringle</cp:lastModifiedBy>
  <dcterms:modified xsi:type="dcterms:W3CDTF">2000-09-04T22:32:55Z</dcterms:modified>
  <cp:revision>28</cp:revision>
  <dc:subject/>
  <dc:title>Fundamentals of Programming</dc:title>
</cp:coreProperties>
</file>